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M206%20-%20TRES%20BON%20FOND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Bruit%20-%20RIRE%206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0EA6-2CB3-4511-89F9-3E693DE7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3B25-AEA0-4A7F-9723-206F6862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36F-7D86-4381-AE29-D7F406AA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5EFC-010C-4AF6-B084-7651E3EE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4917-48B3-4DC6-865B-8A7EA7F6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EA7E-C7D9-4615-B91B-2F2CAE9C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749B-A01F-4B86-8008-A014ACD1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272F-DDBC-4C34-9463-F9A04BCD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03CA-47E7-41DC-B355-645E817F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FACA-BBB8-4223-8EA4-A1A56E5E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28C5-1AD0-41DA-8D54-51DA26E6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6C56-4004-4004-9C7E-DFB5DCA4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5D58-C1B3-49DA-82C2-49D365363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M206%20-%20TRES%20BON%20FOND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Bruit%20-%20RIRE%206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329256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ui Generis"/>
                <a:ea typeface="Arial"/>
              </a:rPr>
              <a:t>HOL A HIBA</a:t>
            </a:r>
            <a:r>
              <a:rPr b="0" lang="en-US" sz="2000" spc="-1" strike="noStrike">
                <a:solidFill>
                  <a:srgbClr val="000000"/>
                </a:solidFill>
                <a:latin typeface="Sui Generis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27880" y="1916280"/>
            <a:ext cx="705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ll MT"/>
              </a:rPr>
              <a:t>Pouvez-vous trouver ce qu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ll MT"/>
              </a:rPr>
              <a:t>cloche dans les images suivan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067280" y="3068640"/>
            <a:ext cx="1108080" cy="1216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69720" y="5867280"/>
            <a:ext cx="27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ll MT"/>
              </a:rPr>
              <a:t>Cliques pour continu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3" name="M206%20-%20TRES%20BON%20FO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11280" y="1341360"/>
            <a:ext cx="4465800" cy="35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ll MT"/>
              </a:rPr>
              <a:t>Ben, personne ne porte de casque de protection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92720" y="4149720"/>
            <a:ext cx="1943280" cy="358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fade/>
    <p:sndAc>
      <p:stSnd>
        <p:snd r:embed="rId2" name="Bruit%20-%20RIRE%206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27640" y="3645000"/>
            <a:ext cx="32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ui Generis"/>
                <a:ea typeface="Arial"/>
              </a:rPr>
              <a:t>MEGTALALTAD  A  HIB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88000" y="2133720"/>
            <a:ext cx="2663640" cy="1800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ll MT"/>
              </a:rPr>
              <a:t>Alo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ll MT"/>
              </a:rPr>
              <a:t>Avez-vous trou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ll MT"/>
              </a:rPr>
              <a:t>Ce qui cloch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19640" y="2637000"/>
            <a:ext cx="266508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ell MT"/>
              </a:rPr>
              <a:t>Pas enco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7T12:48:27Z</dcterms:created>
  <dc:creator/>
  <dc:description/>
  <dc:language>en-US</dc:language>
  <cp:lastModifiedBy>Louis</cp:lastModifiedBy>
  <dcterms:modified xsi:type="dcterms:W3CDTF">2009-01-19T22:18:01Z</dcterms:modified>
  <cp:revision>9</cp:revision>
  <dc:subject/>
  <dc:title>What's wro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17000000000001024120</vt:lpwstr>
  </property>
</Properties>
</file>