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M206%20-%20TRES%20BON%20FOND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Bruit%20-%20RIRE%2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FD9-62B9-4B50-B4E2-132128D8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34D-EBF1-44C0-A1C6-40E2CC7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ED3-32EC-430F-935C-E512405E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B7A-47C9-4A28-8F89-69213792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6AB-5331-4378-A83A-D5645D2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BE-D2D1-472F-8451-7C66447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6D-F4D8-42E2-AB54-404B3BB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DB9-2000-43EA-9CD4-D099C1B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C5A-380A-4D4D-B36D-A7816EA9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24E-DD13-4725-91F7-7F43A66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443-8DF3-4B71-985D-656DC28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C2C-0DAB-46DC-BEC6-48E05AB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C3D3-3BFF-42DC-AA80-5E29556B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206%20-%20TRES%20BON%20FO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ruit%20-%20RIRE%20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32925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ui Generis"/>
                <a:ea typeface="Arial"/>
              </a:rPr>
              <a:t>HOL A HIBA</a:t>
            </a:r>
            <a:r>
              <a:rPr b="0" lang="en-US" sz="2000" spc="-1" strike="noStrike">
                <a:solidFill>
                  <a:srgbClr val="000000"/>
                </a:solidFill>
                <a:latin typeface="Sui Generis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27880" y="191628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ll MT"/>
              </a:rPr>
              <a:t>Pouvez-vous trouver ce q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ll MT"/>
              </a:rPr>
              <a:t>cloche dans les images suiv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1108080" cy="1216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9720" y="5867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Cliques pour contin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M206%20-%20TRES%20BON%20FO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1341360"/>
            <a:ext cx="446580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ll MT"/>
              </a:rPr>
              <a:t>Ben, personne ne porte de casque de protection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149720"/>
            <a:ext cx="1943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/>
    <p:sndAc>
      <p:stSnd>
        <p:snd r:embed="rId2" name="Bruit%20-%20RIRE%20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64500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i Generis"/>
                <a:ea typeface="Arial"/>
              </a:rPr>
              <a:t>MEGTALALTAD  A  HIB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133720"/>
            <a:ext cx="2663640" cy="180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Al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Avez-vous trou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Ce qui cloch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19640" y="2637000"/>
            <a:ext cx="266508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Pas en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7T12:48:27Z</dcterms:created>
  <dc:creator/>
  <dc:description/>
  <dc:language>en-US</dc:language>
  <cp:lastModifiedBy>Louis</cp:lastModifiedBy>
  <dcterms:modified xsi:type="dcterms:W3CDTF">2009-01-19T22:18:01Z</dcterms:modified>
  <cp:revision>9</cp:revision>
  <dc:subject/>
  <dc:title>What's wro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17000000000001024120</vt:lpwstr>
  </property>
</Properties>
</file>